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1835-3F6D-4FF4-8678-41816F784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ECE8-3F5F-4FCC-9275-E1045854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0ECA-B272-4D6F-8BBF-158286C65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B039-F8E5-4B94-AE34-75912E3A2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5ADD-CCC9-4D64-AFF1-040520CA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08BC-145A-4B6B-BC63-51EEF150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8FD4-0812-497C-A074-21DC1F38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DD14-A39C-4BFF-B3E3-65B38332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9F17-9B9C-44A4-988A-83449527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C6DC-616B-409A-A93F-10331D58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A9C3-0BA3-47CE-82CB-FEBA8A9B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14DA-52EC-4E74-B5CC-30309F81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E6CF-598C-43CD-9B66-6581D7B0E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8000" y="179280"/>
            <a:ext cx="8964720" cy="663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947880"/>
            <a:ext cx="8424720" cy="4332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860360" y="6113520"/>
            <a:ext cx="38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. Schwetz à NNN05 7-9 avril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52160" y="420840"/>
            <a:ext cx="488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ée des dégénérescences par LBL + ATM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ptimization of Proton Beam Ener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457200" y="1600200"/>
          <a:ext cx="8229600" cy="4743360"/>
        </p:xfrm>
        <a:graphic>
          <a:graphicData uri="http://schemas.openxmlformats.org/drawingml/2006/table">
            <a:tbl>
              <a:tblPr/>
              <a:tblGrid>
                <a:gridCol w="1646280"/>
                <a:gridCol w="1644480"/>
                <a:gridCol w="1648080"/>
                <a:gridCol w="1644480"/>
                <a:gridCol w="1646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2400" spc="-1" strike="noStrike" baseline="-25000">
                          <a:solidFill>
                            <a:srgbClr val="3333ff"/>
                          </a:solidFill>
                          <a:latin typeface="Times New Roman"/>
                        </a:rPr>
                        <a:t>proton</a:t>
                      </a: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G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2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n-oscil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ν</a:t>
                      </a:r>
                      <a:r>
                        <a:rPr b="0" lang="el-GR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9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9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2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0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cilla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ν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rinsi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am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ν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kgr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e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Signific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S/ (N</a:t>
                      </a:r>
                      <a:r>
                        <a:rPr b="0" lang="en-US" sz="2000" spc="-1" strike="noStrike" baseline="-25000">
                          <a:solidFill>
                            <a:srgbClr val="339933"/>
                          </a:solidFill>
                          <a:latin typeface="Times New Roman"/>
                        </a:rPr>
                        <a:t>total</a:t>
                      </a:r>
                      <a:r>
                        <a:rPr b="0" lang="en-US" sz="20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2000" spc="-1" strike="noStrike" baseline="30000">
                          <a:solidFill>
                            <a:srgbClr val="339933"/>
                          </a:solidFill>
                          <a:latin typeface="Times New Roman"/>
                        </a:rPr>
                        <a:t>1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1.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2.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2.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1.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7469280" y="6521400"/>
            <a:ext cx="1748880" cy="3373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ampagne + Caz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6172200"/>
            <a:ext cx="772776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0% Increase in significance at higher energy: 3.5 or 4.5 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00160" y="208080"/>
            <a:ext cx="32227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.Ellis à NNN05 7-9 avril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474920"/>
            <a:ext cx="4559400" cy="4114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48320" y="2008080"/>
            <a:ext cx="4162320" cy="3353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H="1" flipV="1">
            <a:off x="2895120" y="2895480"/>
            <a:ext cx="228600" cy="106704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3581280" y="358128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809880" y="3733560"/>
            <a:ext cx="76320" cy="5331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562720" y="2590560"/>
            <a:ext cx="609480" cy="6858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33600" y="320688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SPL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+ </a:t>
            </a:r>
            <a:r>
              <a:rPr b="1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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km</a:t>
            </a:r>
            <a:r>
              <a:rPr b="1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0"/>
            <a:ext cx="777240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bining SPL and </a:t>
            </a:r>
            <a:r>
              <a:rPr b="0" lang="el-GR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β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16600" y="6165720"/>
            <a:ext cx="32227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.Ellis à NNN05 7-9 avril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2:22:36Z</dcterms:created>
  <dc:creator>J.E Campagne</dc:creator>
  <dc:description/>
  <dc:language>en-US</dc:language>
  <cp:lastModifiedBy>J.E Campagne</cp:lastModifiedBy>
  <dcterms:modified xsi:type="dcterms:W3CDTF">2005-04-26T12:23:40Z</dcterms:modified>
  <cp:revision>1</cp:revision>
  <dc:subject/>
  <dc:title>Diapositive 1</dc:title>
</cp:coreProperties>
</file>